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B7D3-DA93-4239-A907-1283C880B4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5881-1CF8-4C52-82B6-75EB3514B5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C18D-68E1-4041-BA4E-7588A49DD2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493C-CA00-43FD-8757-8B85EB0DF3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CFAF-911A-41B4-84EC-2390D84B46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BD55-FC5D-4C2E-BDC2-131AFA1B05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8990-088D-4D81-96A7-67F651C69B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1FF5-6B68-4AB1-A6C1-8C3E684CDA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64E7-11F1-4865-AFFA-1E2CD9E86B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8D05-81FF-415A-B699-164990150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3173-34E8-4962-A46E-C13F10CE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C7F9-47D2-4A63-B2F7-F04E81367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C1EA-DF31-48BD-AD29-3074D05CC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C79B-B829-48E2-AF48-2821F1E6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2698-1F09-4ACD-A33B-8C6B0103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FFC4-C029-4CCE-ACDD-FC0B77EE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2B4C-7CD8-46EA-8B12-107B7B5D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2BBA-3D79-4703-AA87-D88ACA35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A34D-4004-458E-855D-BF7772CB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786A-3063-4E0E-ADEF-D75FE4B9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3490-CCD1-4DC6-9875-3515B19B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0DE2-6F68-4C73-A540-762DD0FFA7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5W-mf6gz2w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Onyx"/>
              </a:rPr>
              <a:t>ICE ROAD TRUCKER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’emission que j’ai choisi pour une example des faux realite est “Ice Road Truckers”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:\Users\Alexander.Storey\Desktop\french\IRT\title.jpg"/>
          <p:cNvPicPr/>
          <p:nvPr/>
        </p:nvPicPr>
        <p:blipFill>
          <a:blip r:embed="rId1"/>
          <a:stretch/>
        </p:blipFill>
        <p:spPr>
          <a:xfrm>
            <a:off x="2590920" y="2571840"/>
            <a:ext cx="4267080" cy="4297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ce Road Truckers est un example de une fausse realite parce que ca exagere les risqu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C:\Users\Alexander.Storey\Desktop\french\IRT\ice-road-truckers-home.jpg"/>
          <p:cNvPicPr/>
          <p:nvPr/>
        </p:nvPicPr>
        <p:blipFill>
          <a:blip r:embed="rId1"/>
          <a:stretch/>
        </p:blipFill>
        <p:spPr>
          <a:xfrm>
            <a:off x="914400" y="228600"/>
            <a:ext cx="7620120" cy="3492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ne autre example de une illusion de la realite est que c’est tres dramatic et c’est tres 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incroyabl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C:\Users\Alexander.Storey\Desktop\french\IRT\north-ice-road-truckerstv-f.jpg"/>
          <p:cNvPicPr/>
          <p:nvPr/>
        </p:nvPicPr>
        <p:blipFill>
          <a:blip r:embed="rId1"/>
          <a:stretch/>
        </p:blipFill>
        <p:spPr>
          <a:xfrm>
            <a:off x="1752480" y="3048120"/>
            <a:ext cx="5943600" cy="3133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95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Ensuite Il a l’air que c’est déjà prepar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J:\IRT\ice_road_truckers_hugh.jpg"/>
          <p:cNvPicPr/>
          <p:nvPr/>
        </p:nvPicPr>
        <p:blipFill>
          <a:blip r:embed="rId1"/>
          <a:stretch/>
        </p:blipFill>
        <p:spPr>
          <a:xfrm>
            <a:off x="1981080" y="380880"/>
            <a:ext cx="5079960" cy="3810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Quand je regarde Ice Road Truckers, il me fait penser que d’être un camionneur est tres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ngereus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C:\Users\Alexander.Storey\Desktop\french\IRT\cp-iceroadtruckers2007.jpg"/>
          <p:cNvPicPr/>
          <p:nvPr/>
        </p:nvPicPr>
        <p:blipFill>
          <a:blip r:embed="rId1"/>
          <a:stretch/>
        </p:blipFill>
        <p:spPr>
          <a:xfrm>
            <a:off x="1828800" y="990720"/>
            <a:ext cx="5562720" cy="3133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acteurs exagere beaucoup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J:\IRT\tv_iceRoadTruckers_01.jpg"/>
          <p:cNvPicPr/>
          <p:nvPr/>
        </p:nvPicPr>
        <p:blipFill>
          <a:blip r:embed="rId1"/>
          <a:stretch/>
        </p:blipFill>
        <p:spPr>
          <a:xfrm>
            <a:off x="1295280" y="1828800"/>
            <a:ext cx="6032520" cy="4025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M5W-mf6gz2w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6:42:45Z</dcterms:created>
  <dc:creator>A satisfied Microsoft Office User</dc:creator>
  <dc:description/>
  <dc:language>en-US</dc:language>
  <cp:lastModifiedBy>Alex</cp:lastModifiedBy>
  <dcterms:modified xsi:type="dcterms:W3CDTF">2011-02-20T15:33:35Z</dcterms:modified>
  <cp:revision>7</cp:revision>
  <dc:subject/>
  <dc:title>ICE ROAD TRUCKERS</dc:title>
</cp:coreProperties>
</file>